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470-6837-4820-AC31-94EDE978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6EB-85B7-44AB-A188-A264C2C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E94-29B5-466E-AACB-C763931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0DD-F80E-4565-A83A-F2C86FB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5D9F-D1AF-423C-BB63-594E99E0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0EF-B527-4304-BB88-A8EB2C0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AEC-46F0-40AE-861C-2BE6E7E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7B5-639A-4642-A163-6BBDADC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41E-B3A0-460E-B4B6-E257C1A9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752A-2DAF-42B1-A00F-1FD81A0A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98F-1F0D-4C48-BD13-F7340C1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CA8-A548-48DB-B571-3015C47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F2C8-931F-45EA-BE26-6D9FF74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96B2-2C9B-4D4A-A625-B017738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FBE-E428-4344-B1F6-545E85C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EE4C-FC26-447D-9E2F-5748A1BE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25D4-F3AF-457F-B9FB-D8D46A8F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FEB-D285-499E-BA52-95E02F09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409-34A9-4A73-A416-4B4EEB1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4E5-E0D1-48FF-876A-6C10014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251-1CE0-447C-9DE6-D338D47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AF2-0FEE-45FA-94FC-3AB0729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01E-99B6-4444-A4E3-8051FC6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E12-F54E-47ED-BF65-9D69490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85B-5704-423D-AEE0-D0D6AA72E45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11C-97BD-4931-B4A7-333A1FC4F2B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чет потребления энергоресурсов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ячая и холодная 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о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оэнер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грация с другими систем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5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341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боры учета расхода холодной и горячей 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4716360" y="522360"/>
            <a:ext cx="4194360" cy="17542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50920" y="2708280"/>
            <a:ext cx="4535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подключения счетчиков расхода холодной и горячей воды с импульсным выходом (СХВ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Д, СГВ-хх-Д, СВМ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 и подобные) применяются блоки тарифицированных счетчиков БТС и БТС-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из них позволяет подключить 5 и 8 счетчиков соответственно. Блоки обеспечивают подсчет импульсов расхода по четырем независимым тарифным зонам для каждого входного кан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311800" y="3014640"/>
            <a:ext cx="3292560" cy="2685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8101080" y="1052640"/>
            <a:ext cx="647640" cy="1081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19640" y="2924280"/>
            <a:ext cx="3456000" cy="2881080"/>
          </a:xfrm>
          <a:prstGeom prst="roundRect">
            <a:avLst>
              <a:gd name="adj" fmla="val 16667"/>
            </a:avLst>
          </a:prstGeom>
          <a:noFill/>
          <a:ln w="17784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втоматизированное рабочее место диспетчера (АРМ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5724360" y="1916280"/>
          <a:ext cx="3259440" cy="21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16280"/>
                    <a:ext cx="3259440" cy="21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50920" y="1484280"/>
            <a:ext cx="4033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ображения текущих и архивных данных используется персональный компьютер с установленной на нем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AD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системой «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anMon-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а содержит большие возможности для отображения состояния и управления оборудованием различных сист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4427640" y="1052640"/>
          <a:ext cx="390816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052640"/>
                    <a:ext cx="39081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4140360" y="2349360"/>
            <a:ext cx="2573280" cy="21733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50920" y="4221000"/>
            <a:ext cx="76327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возможност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афическое отображение текущих значений контролируемых параметр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троенные подсистемы графиков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ends)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сигналов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arm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ые средства формирования исторических отче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дули взаимодействия с устройствами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323 (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дача речи), встроенный драйвер протокол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C 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онтроль качества услу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12000" y="333360"/>
            <a:ext cx="2089080" cy="1513080"/>
            <a:chOff x="6012000" y="333360"/>
            <a:chExt cx="2089080" cy="1513080"/>
          </a:xfrm>
        </p:grpSpPr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6085080" y="384480"/>
              <a:ext cx="193824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6012000" y="333360"/>
              <a:ext cx="2089080" cy="1513080"/>
            </a:xfrm>
            <a:prstGeom prst="roundRect">
              <a:avLst>
                <a:gd name="adj" fmla="val 16667"/>
              </a:avLst>
            </a:prstGeom>
            <a:noFill/>
            <a:ln w="27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02" name=""/>
          <p:cNvGraphicFramePr/>
          <p:nvPr/>
        </p:nvGraphicFramePr>
        <p:xfrm>
          <a:off x="4643280" y="1916280"/>
          <a:ext cx="4131000" cy="217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916280"/>
                    <a:ext cx="4131000" cy="21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250920" y="134136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ение системы создает предпосылки создания автоматизированной системы инструментального контроля качества услуг, предоставляемых насел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560" y="3500280"/>
            <a:ext cx="483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ение непрерывной базы данны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ений контролируемых параметр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воляет объективно судить 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олжительности период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ключений водо- и электроснабжения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облюдении температурног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фика и прочих отклонениях 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ункционировании инженерных систе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4643280" y="4149720"/>
          <a:ext cx="4175280" cy="21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4149720"/>
                    <a:ext cx="417528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5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вартирный и общедомовой коммерческий учет потре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роль функционально-технического состояния оборудования учета и сетей передачи д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роль качества услуг предоставляемых насел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т потерь энергоресурсов, оценка качества эксплуатации инженерных с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5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уктура систе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59280" y="3068640"/>
            <a:ext cx="216036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0920" y="3357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32000" y="3357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4797360"/>
            <a:ext cx="1873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5640" y="50864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49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ект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27280" y="4797360"/>
            <a:ext cx="18734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71640" y="50864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49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ект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1640" y="4797360"/>
            <a:ext cx="1873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6000" y="50864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49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ек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88000" y="49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195640" y="4076640"/>
            <a:ext cx="1008000" cy="647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995640" y="4076280"/>
            <a:ext cx="0" cy="647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5076720" y="4076280"/>
            <a:ext cx="936720" cy="647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2560" y="1555920"/>
            <a:ext cx="18734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6920" y="184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98560" y="1700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М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computr2"/>
          <p:cNvSpPr/>
          <p:nvPr/>
        </p:nvSpPr>
        <p:spPr>
          <a:xfrm>
            <a:off x="1978200" y="1627200"/>
            <a:ext cx="504720" cy="476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948360" y="4869000"/>
            <a:ext cx="501840" cy="503280"/>
            <a:chOff x="6948360" y="4869000"/>
            <a:chExt cx="501840" cy="503280"/>
          </a:xfrm>
        </p:grpSpPr>
        <p:sp>
          <p:nvSpPr>
            <p:cNvPr id="410" name=""/>
            <p:cNvSpPr/>
            <p:nvPr/>
          </p:nvSpPr>
          <p:spPr>
            <a:xfrm>
              <a:off x="6970680" y="4890240"/>
              <a:ext cx="466200" cy="469080"/>
            </a:xfrm>
            <a:custGeom>
              <a:avLst/>
              <a:gdLst/>
              <a:ahLst/>
              <a:rect l="l" t="t" r="r" b="b"/>
              <a:pathLst>
                <a:path w="1079" h="1084">
                  <a:moveTo>
                    <a:pt x="970" y="1084"/>
                  </a:moveTo>
                  <a:lnTo>
                    <a:pt x="992" y="1082"/>
                  </a:lnTo>
                  <a:lnTo>
                    <a:pt x="1012" y="1075"/>
                  </a:lnTo>
                  <a:lnTo>
                    <a:pt x="1031" y="1066"/>
                  </a:lnTo>
                  <a:lnTo>
                    <a:pt x="1047" y="1052"/>
                  </a:lnTo>
                  <a:lnTo>
                    <a:pt x="1061" y="1036"/>
                  </a:lnTo>
                  <a:lnTo>
                    <a:pt x="1070" y="1017"/>
                  </a:lnTo>
                  <a:lnTo>
                    <a:pt x="1077" y="996"/>
                  </a:lnTo>
                  <a:lnTo>
                    <a:pt x="1079" y="975"/>
                  </a:lnTo>
                  <a:lnTo>
                    <a:pt x="1079" y="109"/>
                  </a:lnTo>
                  <a:lnTo>
                    <a:pt x="1077" y="87"/>
                  </a:lnTo>
                  <a:lnTo>
                    <a:pt x="1070" y="66"/>
                  </a:lnTo>
                  <a:lnTo>
                    <a:pt x="1061" y="48"/>
                  </a:lnTo>
                  <a:lnTo>
                    <a:pt x="1047" y="32"/>
                  </a:lnTo>
                  <a:lnTo>
                    <a:pt x="1031" y="18"/>
                  </a:lnTo>
                  <a:lnTo>
                    <a:pt x="1012" y="9"/>
                  </a:lnTo>
                  <a:lnTo>
                    <a:pt x="992" y="2"/>
                  </a:lnTo>
                  <a:lnTo>
                    <a:pt x="970" y="0"/>
                  </a:lnTo>
                  <a:lnTo>
                    <a:pt x="109" y="0"/>
                  </a:lnTo>
                  <a:lnTo>
                    <a:pt x="87" y="2"/>
                  </a:lnTo>
                  <a:lnTo>
                    <a:pt x="67" y="9"/>
                  </a:lnTo>
                  <a:lnTo>
                    <a:pt x="48" y="18"/>
                  </a:lnTo>
                  <a:lnTo>
                    <a:pt x="32" y="32"/>
                  </a:lnTo>
                  <a:lnTo>
                    <a:pt x="18" y="48"/>
                  </a:lnTo>
                  <a:lnTo>
                    <a:pt x="9" y="66"/>
                  </a:lnTo>
                  <a:lnTo>
                    <a:pt x="2" y="87"/>
                  </a:lnTo>
                  <a:lnTo>
                    <a:pt x="0" y="109"/>
                  </a:lnTo>
                  <a:lnTo>
                    <a:pt x="0" y="975"/>
                  </a:lnTo>
                  <a:lnTo>
                    <a:pt x="2" y="996"/>
                  </a:lnTo>
                  <a:lnTo>
                    <a:pt x="9" y="1017"/>
                  </a:lnTo>
                  <a:lnTo>
                    <a:pt x="18" y="1036"/>
                  </a:lnTo>
                  <a:lnTo>
                    <a:pt x="32" y="1052"/>
                  </a:lnTo>
                  <a:lnTo>
                    <a:pt x="48" y="1066"/>
                  </a:lnTo>
                  <a:lnTo>
                    <a:pt x="67" y="1075"/>
                  </a:lnTo>
                  <a:lnTo>
                    <a:pt x="87" y="1082"/>
                  </a:lnTo>
                  <a:lnTo>
                    <a:pt x="109" y="1084"/>
                  </a:lnTo>
                  <a:lnTo>
                    <a:pt x="970" y="10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4960" y="4940280"/>
              <a:ext cx="373320" cy="31140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704" y="0"/>
                  </a:moveTo>
                  <a:lnTo>
                    <a:pt x="146" y="0"/>
                  </a:lnTo>
                  <a:lnTo>
                    <a:pt x="0" y="299"/>
                  </a:lnTo>
                  <a:lnTo>
                    <a:pt x="99" y="299"/>
                  </a:lnTo>
                  <a:lnTo>
                    <a:pt x="99" y="718"/>
                  </a:lnTo>
                  <a:lnTo>
                    <a:pt x="754" y="721"/>
                  </a:lnTo>
                  <a:lnTo>
                    <a:pt x="754" y="299"/>
                  </a:lnTo>
                  <a:lnTo>
                    <a:pt x="865" y="299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72480" y="5248440"/>
              <a:ext cx="459720" cy="83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70680" y="5270760"/>
              <a:ext cx="47376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1684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1684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91640" y="514368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91640" y="517680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87120" y="514368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87120" y="517680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6192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6192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97040" y="4917600"/>
              <a:ext cx="33480" cy="9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6880" y="5151960"/>
              <a:ext cx="61200" cy="94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79120" y="5163840"/>
              <a:ext cx="3456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05040" y="5211360"/>
              <a:ext cx="12600" cy="12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31"/>
                  </a:moveTo>
                  <a:lnTo>
                    <a:pt x="22" y="30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5" y="26"/>
                  </a:lnTo>
                  <a:lnTo>
                    <a:pt x="9" y="3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9600" y="5261760"/>
              <a:ext cx="455400" cy="94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696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2216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5384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7940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0964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6640" y="5295600"/>
              <a:ext cx="9360" cy="10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6688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9280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2196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4788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3"/>
                  </a:moveTo>
                  <a:lnTo>
                    <a:pt x="2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5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78840" y="5279760"/>
              <a:ext cx="1152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0548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608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6236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9696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384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0964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6688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2196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78840" y="5317560"/>
              <a:ext cx="1152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3608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9296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7440" y="4981320"/>
              <a:ext cx="56520" cy="950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30" y="220"/>
                  </a:moveTo>
                  <a:lnTo>
                    <a:pt x="130" y="58"/>
                  </a:lnTo>
                  <a:lnTo>
                    <a:pt x="68" y="0"/>
                  </a:lnTo>
                  <a:lnTo>
                    <a:pt x="0" y="58"/>
                  </a:lnTo>
                  <a:lnTo>
                    <a:pt x="0" y="220"/>
                  </a:lnTo>
                  <a:lnTo>
                    <a:pt x="130" y="2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6876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6876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4680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4680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07480" y="4982040"/>
              <a:ext cx="55080" cy="94320"/>
            </a:xfrm>
            <a:custGeom>
              <a:avLst/>
              <a:gdLst/>
              <a:ahLst/>
              <a:rect l="l" t="t" r="r" b="b"/>
              <a:pathLst>
                <a:path w="129" h="216">
                  <a:moveTo>
                    <a:pt x="129" y="216"/>
                  </a:moveTo>
                  <a:lnTo>
                    <a:pt x="129" y="54"/>
                  </a:lnTo>
                  <a:lnTo>
                    <a:pt x="68" y="0"/>
                  </a:lnTo>
                  <a:lnTo>
                    <a:pt x="0" y="54"/>
                  </a:lnTo>
                  <a:lnTo>
                    <a:pt x="0" y="216"/>
                  </a:lnTo>
                  <a:lnTo>
                    <a:pt x="129" y="2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39160" y="501228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39160" y="504180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16840" y="501228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16840" y="504180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48360" y="4869000"/>
              <a:ext cx="501840" cy="503280"/>
            </a:xfrm>
            <a:custGeom>
              <a:avLst/>
              <a:gdLst/>
              <a:ahLst/>
              <a:rect l="l" t="t" r="r" b="b"/>
              <a:pathLst>
                <a:path w="1162" h="1164">
                  <a:moveTo>
                    <a:pt x="1121" y="43"/>
                  </a:moveTo>
                  <a:lnTo>
                    <a:pt x="1110" y="33"/>
                  </a:lnTo>
                  <a:lnTo>
                    <a:pt x="1099" y="24"/>
                  </a:lnTo>
                  <a:lnTo>
                    <a:pt x="1086" y="17"/>
                  </a:lnTo>
                  <a:lnTo>
                    <a:pt x="1073" y="10"/>
                  </a:lnTo>
                  <a:lnTo>
                    <a:pt x="1061" y="6"/>
                  </a:lnTo>
                  <a:lnTo>
                    <a:pt x="1047" y="2"/>
                  </a:lnTo>
                  <a:lnTo>
                    <a:pt x="1033" y="1"/>
                  </a:lnTo>
                  <a:lnTo>
                    <a:pt x="1019" y="0"/>
                  </a:lnTo>
                  <a:lnTo>
                    <a:pt x="144" y="0"/>
                  </a:lnTo>
                  <a:lnTo>
                    <a:pt x="115" y="3"/>
                  </a:lnTo>
                  <a:lnTo>
                    <a:pt x="88" y="12"/>
                  </a:lnTo>
                  <a:lnTo>
                    <a:pt x="63" y="24"/>
                  </a:lnTo>
                  <a:lnTo>
                    <a:pt x="43" y="43"/>
                  </a:lnTo>
                  <a:lnTo>
                    <a:pt x="24" y="63"/>
                  </a:lnTo>
                  <a:lnTo>
                    <a:pt x="12" y="88"/>
                  </a:lnTo>
                  <a:lnTo>
                    <a:pt x="3" y="115"/>
                  </a:lnTo>
                  <a:lnTo>
                    <a:pt x="0" y="144"/>
                  </a:lnTo>
                  <a:lnTo>
                    <a:pt x="0" y="552"/>
                  </a:lnTo>
                  <a:lnTo>
                    <a:pt x="69" y="552"/>
                  </a:lnTo>
                  <a:lnTo>
                    <a:pt x="69" y="144"/>
                  </a:lnTo>
                  <a:lnTo>
                    <a:pt x="70" y="129"/>
                  </a:lnTo>
                  <a:lnTo>
                    <a:pt x="75" y="115"/>
                  </a:lnTo>
                  <a:lnTo>
                    <a:pt x="82" y="103"/>
                  </a:lnTo>
                  <a:lnTo>
                    <a:pt x="91" y="91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8" y="77"/>
                  </a:lnTo>
                  <a:lnTo>
                    <a:pt x="115" y="75"/>
                  </a:lnTo>
                  <a:lnTo>
                    <a:pt x="122" y="73"/>
                  </a:lnTo>
                  <a:lnTo>
                    <a:pt x="129" y="70"/>
                  </a:lnTo>
                  <a:lnTo>
                    <a:pt x="136" y="69"/>
                  </a:lnTo>
                  <a:lnTo>
                    <a:pt x="144" y="69"/>
                  </a:lnTo>
                  <a:lnTo>
                    <a:pt x="1019" y="69"/>
                  </a:lnTo>
                  <a:lnTo>
                    <a:pt x="1026" y="69"/>
                  </a:lnTo>
                  <a:lnTo>
                    <a:pt x="1034" y="70"/>
                  </a:lnTo>
                  <a:lnTo>
                    <a:pt x="1041" y="73"/>
                  </a:lnTo>
                  <a:lnTo>
                    <a:pt x="1048" y="75"/>
                  </a:lnTo>
                  <a:lnTo>
                    <a:pt x="1055" y="77"/>
                  </a:lnTo>
                  <a:lnTo>
                    <a:pt x="1061" y="82"/>
                  </a:lnTo>
                  <a:lnTo>
                    <a:pt x="1066" y="85"/>
                  </a:lnTo>
                  <a:lnTo>
                    <a:pt x="1072" y="91"/>
                  </a:lnTo>
                  <a:lnTo>
                    <a:pt x="1081" y="103"/>
                  </a:lnTo>
                  <a:lnTo>
                    <a:pt x="1088" y="115"/>
                  </a:lnTo>
                  <a:lnTo>
                    <a:pt x="1093" y="129"/>
                  </a:lnTo>
                  <a:lnTo>
                    <a:pt x="1094" y="144"/>
                  </a:lnTo>
                  <a:lnTo>
                    <a:pt x="1094" y="1021"/>
                  </a:lnTo>
                  <a:lnTo>
                    <a:pt x="1093" y="1036"/>
                  </a:lnTo>
                  <a:lnTo>
                    <a:pt x="1088" y="1050"/>
                  </a:lnTo>
                  <a:lnTo>
                    <a:pt x="1081" y="1063"/>
                  </a:lnTo>
                  <a:lnTo>
                    <a:pt x="1072" y="1074"/>
                  </a:lnTo>
                  <a:lnTo>
                    <a:pt x="1061" y="1083"/>
                  </a:lnTo>
                  <a:lnTo>
                    <a:pt x="1048" y="1090"/>
                  </a:lnTo>
                  <a:lnTo>
                    <a:pt x="1034" y="1095"/>
                  </a:lnTo>
                  <a:lnTo>
                    <a:pt x="1019" y="1096"/>
                  </a:lnTo>
                  <a:lnTo>
                    <a:pt x="144" y="1096"/>
                  </a:lnTo>
                  <a:lnTo>
                    <a:pt x="136" y="1096"/>
                  </a:lnTo>
                  <a:lnTo>
                    <a:pt x="129" y="1095"/>
                  </a:lnTo>
                  <a:lnTo>
                    <a:pt x="122" y="1093"/>
                  </a:lnTo>
                  <a:lnTo>
                    <a:pt x="115" y="1090"/>
                  </a:lnTo>
                  <a:lnTo>
                    <a:pt x="108" y="1087"/>
                  </a:lnTo>
                  <a:lnTo>
                    <a:pt x="102" y="1083"/>
                  </a:lnTo>
                  <a:lnTo>
                    <a:pt x="97" y="1079"/>
                  </a:lnTo>
                  <a:lnTo>
                    <a:pt x="91" y="1074"/>
                  </a:lnTo>
                  <a:lnTo>
                    <a:pt x="82" y="1063"/>
                  </a:lnTo>
                  <a:lnTo>
                    <a:pt x="75" y="1050"/>
                  </a:lnTo>
                  <a:lnTo>
                    <a:pt x="70" y="1036"/>
                  </a:lnTo>
                  <a:lnTo>
                    <a:pt x="69" y="1021"/>
                  </a:lnTo>
                  <a:lnTo>
                    <a:pt x="69" y="552"/>
                  </a:lnTo>
                  <a:lnTo>
                    <a:pt x="0" y="552"/>
                  </a:lnTo>
                  <a:lnTo>
                    <a:pt x="0" y="1021"/>
                  </a:lnTo>
                  <a:lnTo>
                    <a:pt x="1" y="1035"/>
                  </a:lnTo>
                  <a:lnTo>
                    <a:pt x="2" y="1049"/>
                  </a:lnTo>
                  <a:lnTo>
                    <a:pt x="6" y="1063"/>
                  </a:lnTo>
                  <a:lnTo>
                    <a:pt x="12" y="1075"/>
                  </a:lnTo>
                  <a:lnTo>
                    <a:pt x="17" y="1088"/>
                  </a:lnTo>
                  <a:lnTo>
                    <a:pt x="24" y="1101"/>
                  </a:lnTo>
                  <a:lnTo>
                    <a:pt x="33" y="1112"/>
                  </a:lnTo>
                  <a:lnTo>
                    <a:pt x="43" y="1123"/>
                  </a:lnTo>
                  <a:lnTo>
                    <a:pt x="53" y="1132"/>
                  </a:lnTo>
                  <a:lnTo>
                    <a:pt x="64" y="1140"/>
                  </a:lnTo>
                  <a:lnTo>
                    <a:pt x="76" y="1147"/>
                  </a:lnTo>
                  <a:lnTo>
                    <a:pt x="89" y="1154"/>
                  </a:lnTo>
                  <a:lnTo>
                    <a:pt x="102" y="1158"/>
                  </a:lnTo>
                  <a:lnTo>
                    <a:pt x="116" y="1162"/>
                  </a:lnTo>
                  <a:lnTo>
                    <a:pt x="130" y="1163"/>
                  </a:lnTo>
                  <a:lnTo>
                    <a:pt x="144" y="1164"/>
                  </a:lnTo>
                  <a:lnTo>
                    <a:pt x="1019" y="1164"/>
                  </a:lnTo>
                  <a:lnTo>
                    <a:pt x="1033" y="1163"/>
                  </a:lnTo>
                  <a:lnTo>
                    <a:pt x="1047" y="1162"/>
                  </a:lnTo>
                  <a:lnTo>
                    <a:pt x="1061" y="1158"/>
                  </a:lnTo>
                  <a:lnTo>
                    <a:pt x="1073" y="1154"/>
                  </a:lnTo>
                  <a:lnTo>
                    <a:pt x="1086" y="1147"/>
                  </a:lnTo>
                  <a:lnTo>
                    <a:pt x="1099" y="1140"/>
                  </a:lnTo>
                  <a:lnTo>
                    <a:pt x="1110" y="1132"/>
                  </a:lnTo>
                  <a:lnTo>
                    <a:pt x="1121" y="1123"/>
                  </a:lnTo>
                  <a:lnTo>
                    <a:pt x="1130" y="1112"/>
                  </a:lnTo>
                  <a:lnTo>
                    <a:pt x="1138" y="1101"/>
                  </a:lnTo>
                  <a:lnTo>
                    <a:pt x="1145" y="1088"/>
                  </a:lnTo>
                  <a:lnTo>
                    <a:pt x="1152" y="1075"/>
                  </a:lnTo>
                  <a:lnTo>
                    <a:pt x="1156" y="1063"/>
                  </a:lnTo>
                  <a:lnTo>
                    <a:pt x="1160" y="1049"/>
                  </a:lnTo>
                  <a:lnTo>
                    <a:pt x="1161" y="1035"/>
                  </a:lnTo>
                  <a:lnTo>
                    <a:pt x="1162" y="1021"/>
                  </a:lnTo>
                  <a:lnTo>
                    <a:pt x="1162" y="144"/>
                  </a:lnTo>
                  <a:lnTo>
                    <a:pt x="1161" y="130"/>
                  </a:lnTo>
                  <a:lnTo>
                    <a:pt x="1160" y="116"/>
                  </a:lnTo>
                  <a:lnTo>
                    <a:pt x="1156" y="103"/>
                  </a:lnTo>
                  <a:lnTo>
                    <a:pt x="1152" y="89"/>
                  </a:lnTo>
                  <a:lnTo>
                    <a:pt x="1145" y="76"/>
                  </a:lnTo>
                  <a:lnTo>
                    <a:pt x="1138" y="65"/>
                  </a:lnTo>
                  <a:lnTo>
                    <a:pt x="1130" y="53"/>
                  </a:lnTo>
                  <a:lnTo>
                    <a:pt x="1121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211640" y="3213000"/>
            <a:ext cx="647280" cy="533160"/>
            <a:chOff x="4211640" y="3213000"/>
            <a:chExt cx="647280" cy="533160"/>
          </a:xfrm>
        </p:grpSpPr>
        <p:sp>
          <p:nvSpPr>
            <p:cNvPr id="462" name="Gear"/>
            <p:cNvSpPr/>
            <p:nvPr/>
          </p:nvSpPr>
          <p:spPr>
            <a:xfrm>
              <a:off x="4570560" y="3213000"/>
              <a:ext cx="288360" cy="244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11640" y="3313800"/>
              <a:ext cx="344880" cy="292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35200" y="3421440"/>
              <a:ext cx="383400" cy="324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700360" y="1555920"/>
            <a:ext cx="1873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44720" y="184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16360" y="1700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М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computr2"/>
          <p:cNvSpPr/>
          <p:nvPr/>
        </p:nvSpPr>
        <p:spPr>
          <a:xfrm>
            <a:off x="3995640" y="1627200"/>
            <a:ext cx="505080" cy="476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51640" y="1555920"/>
            <a:ext cx="1873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96000" y="184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17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computr2"/>
          <p:cNvSpPr/>
          <p:nvPr/>
        </p:nvSpPr>
        <p:spPr>
          <a:xfrm>
            <a:off x="6946920" y="1627200"/>
            <a:ext cx="504720" cy="476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076720" y="2276640"/>
            <a:ext cx="935280" cy="720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995640" y="2276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2195640" y="2276640"/>
            <a:ext cx="1008000" cy="720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924360" y="4869000"/>
            <a:ext cx="501480" cy="503280"/>
            <a:chOff x="3924360" y="4869000"/>
            <a:chExt cx="501480" cy="503280"/>
          </a:xfrm>
        </p:grpSpPr>
        <p:sp>
          <p:nvSpPr>
            <p:cNvPr id="477" name=""/>
            <p:cNvSpPr/>
            <p:nvPr/>
          </p:nvSpPr>
          <p:spPr>
            <a:xfrm>
              <a:off x="3946680" y="4890240"/>
              <a:ext cx="466200" cy="469080"/>
            </a:xfrm>
            <a:custGeom>
              <a:avLst/>
              <a:gdLst/>
              <a:ahLst/>
              <a:rect l="l" t="t" r="r" b="b"/>
              <a:pathLst>
                <a:path w="1079" h="1084">
                  <a:moveTo>
                    <a:pt x="970" y="1084"/>
                  </a:moveTo>
                  <a:lnTo>
                    <a:pt x="992" y="1082"/>
                  </a:lnTo>
                  <a:lnTo>
                    <a:pt x="1012" y="1075"/>
                  </a:lnTo>
                  <a:lnTo>
                    <a:pt x="1031" y="1066"/>
                  </a:lnTo>
                  <a:lnTo>
                    <a:pt x="1047" y="1052"/>
                  </a:lnTo>
                  <a:lnTo>
                    <a:pt x="1061" y="1036"/>
                  </a:lnTo>
                  <a:lnTo>
                    <a:pt x="1070" y="1017"/>
                  </a:lnTo>
                  <a:lnTo>
                    <a:pt x="1077" y="996"/>
                  </a:lnTo>
                  <a:lnTo>
                    <a:pt x="1079" y="975"/>
                  </a:lnTo>
                  <a:lnTo>
                    <a:pt x="1079" y="109"/>
                  </a:lnTo>
                  <a:lnTo>
                    <a:pt x="1077" y="87"/>
                  </a:lnTo>
                  <a:lnTo>
                    <a:pt x="1070" y="66"/>
                  </a:lnTo>
                  <a:lnTo>
                    <a:pt x="1061" y="48"/>
                  </a:lnTo>
                  <a:lnTo>
                    <a:pt x="1047" y="32"/>
                  </a:lnTo>
                  <a:lnTo>
                    <a:pt x="1031" y="18"/>
                  </a:lnTo>
                  <a:lnTo>
                    <a:pt x="1012" y="9"/>
                  </a:lnTo>
                  <a:lnTo>
                    <a:pt x="992" y="2"/>
                  </a:lnTo>
                  <a:lnTo>
                    <a:pt x="970" y="0"/>
                  </a:lnTo>
                  <a:lnTo>
                    <a:pt x="109" y="0"/>
                  </a:lnTo>
                  <a:lnTo>
                    <a:pt x="87" y="2"/>
                  </a:lnTo>
                  <a:lnTo>
                    <a:pt x="67" y="9"/>
                  </a:lnTo>
                  <a:lnTo>
                    <a:pt x="48" y="18"/>
                  </a:lnTo>
                  <a:lnTo>
                    <a:pt x="32" y="32"/>
                  </a:lnTo>
                  <a:lnTo>
                    <a:pt x="18" y="48"/>
                  </a:lnTo>
                  <a:lnTo>
                    <a:pt x="9" y="66"/>
                  </a:lnTo>
                  <a:lnTo>
                    <a:pt x="2" y="87"/>
                  </a:lnTo>
                  <a:lnTo>
                    <a:pt x="0" y="109"/>
                  </a:lnTo>
                  <a:lnTo>
                    <a:pt x="0" y="975"/>
                  </a:lnTo>
                  <a:lnTo>
                    <a:pt x="2" y="996"/>
                  </a:lnTo>
                  <a:lnTo>
                    <a:pt x="9" y="1017"/>
                  </a:lnTo>
                  <a:lnTo>
                    <a:pt x="18" y="1036"/>
                  </a:lnTo>
                  <a:lnTo>
                    <a:pt x="32" y="1052"/>
                  </a:lnTo>
                  <a:lnTo>
                    <a:pt x="48" y="1066"/>
                  </a:lnTo>
                  <a:lnTo>
                    <a:pt x="67" y="1075"/>
                  </a:lnTo>
                  <a:lnTo>
                    <a:pt x="87" y="1082"/>
                  </a:lnTo>
                  <a:lnTo>
                    <a:pt x="109" y="1084"/>
                  </a:lnTo>
                  <a:lnTo>
                    <a:pt x="970" y="10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90960" y="4940280"/>
              <a:ext cx="372960" cy="31140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704" y="0"/>
                  </a:moveTo>
                  <a:lnTo>
                    <a:pt x="146" y="0"/>
                  </a:lnTo>
                  <a:lnTo>
                    <a:pt x="0" y="299"/>
                  </a:lnTo>
                  <a:lnTo>
                    <a:pt x="99" y="299"/>
                  </a:lnTo>
                  <a:lnTo>
                    <a:pt x="99" y="718"/>
                  </a:lnTo>
                  <a:lnTo>
                    <a:pt x="754" y="721"/>
                  </a:lnTo>
                  <a:lnTo>
                    <a:pt x="754" y="299"/>
                  </a:lnTo>
                  <a:lnTo>
                    <a:pt x="865" y="299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48480" y="5248440"/>
              <a:ext cx="459360" cy="83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46680" y="5270760"/>
              <a:ext cx="47340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9284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9284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67640" y="514368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67640" y="517680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62760" y="514368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2760" y="517680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3756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3756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72680" y="4917600"/>
              <a:ext cx="33480" cy="9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42880" y="5151960"/>
              <a:ext cx="61200" cy="94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4760" y="5163840"/>
              <a:ext cx="3456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81040" y="5211360"/>
              <a:ext cx="12600" cy="12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31"/>
                  </a:moveTo>
                  <a:lnTo>
                    <a:pt x="22" y="30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5" y="26"/>
                  </a:lnTo>
                  <a:lnTo>
                    <a:pt x="9" y="3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45600" y="5261760"/>
              <a:ext cx="455040" cy="94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7296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9816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2984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5540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8564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2640" y="5295600"/>
              <a:ext cx="9360" cy="10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4288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6844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796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2352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3"/>
                  </a:moveTo>
                  <a:lnTo>
                    <a:pt x="2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5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54480" y="5279760"/>
              <a:ext cx="1152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112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172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3800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6860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7296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2984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8564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4288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796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54480" y="5317560"/>
              <a:ext cx="1152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1172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6860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13440" y="4981320"/>
              <a:ext cx="56520" cy="950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30" y="220"/>
                  </a:moveTo>
                  <a:lnTo>
                    <a:pt x="130" y="58"/>
                  </a:lnTo>
                  <a:lnTo>
                    <a:pt x="68" y="0"/>
                  </a:lnTo>
                  <a:lnTo>
                    <a:pt x="0" y="58"/>
                  </a:lnTo>
                  <a:lnTo>
                    <a:pt x="0" y="220"/>
                  </a:lnTo>
                  <a:lnTo>
                    <a:pt x="130" y="2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4440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4440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2280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2280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83480" y="4982040"/>
              <a:ext cx="55080" cy="94320"/>
            </a:xfrm>
            <a:custGeom>
              <a:avLst/>
              <a:gdLst/>
              <a:ahLst/>
              <a:rect l="l" t="t" r="r" b="b"/>
              <a:pathLst>
                <a:path w="129" h="216">
                  <a:moveTo>
                    <a:pt x="129" y="216"/>
                  </a:moveTo>
                  <a:lnTo>
                    <a:pt x="129" y="54"/>
                  </a:lnTo>
                  <a:lnTo>
                    <a:pt x="68" y="0"/>
                  </a:lnTo>
                  <a:lnTo>
                    <a:pt x="0" y="54"/>
                  </a:lnTo>
                  <a:lnTo>
                    <a:pt x="0" y="216"/>
                  </a:lnTo>
                  <a:lnTo>
                    <a:pt x="129" y="2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15160" y="501228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5160" y="504180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92840" y="501228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92840" y="504180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24360" y="4869000"/>
              <a:ext cx="501480" cy="503280"/>
            </a:xfrm>
            <a:custGeom>
              <a:avLst/>
              <a:gdLst/>
              <a:ahLst/>
              <a:rect l="l" t="t" r="r" b="b"/>
              <a:pathLst>
                <a:path w="1162" h="1164">
                  <a:moveTo>
                    <a:pt x="1121" y="43"/>
                  </a:moveTo>
                  <a:lnTo>
                    <a:pt x="1110" y="33"/>
                  </a:lnTo>
                  <a:lnTo>
                    <a:pt x="1099" y="24"/>
                  </a:lnTo>
                  <a:lnTo>
                    <a:pt x="1086" y="17"/>
                  </a:lnTo>
                  <a:lnTo>
                    <a:pt x="1073" y="10"/>
                  </a:lnTo>
                  <a:lnTo>
                    <a:pt x="1061" y="6"/>
                  </a:lnTo>
                  <a:lnTo>
                    <a:pt x="1047" y="2"/>
                  </a:lnTo>
                  <a:lnTo>
                    <a:pt x="1033" y="1"/>
                  </a:lnTo>
                  <a:lnTo>
                    <a:pt x="1019" y="0"/>
                  </a:lnTo>
                  <a:lnTo>
                    <a:pt x="144" y="0"/>
                  </a:lnTo>
                  <a:lnTo>
                    <a:pt x="115" y="3"/>
                  </a:lnTo>
                  <a:lnTo>
                    <a:pt x="88" y="12"/>
                  </a:lnTo>
                  <a:lnTo>
                    <a:pt x="63" y="24"/>
                  </a:lnTo>
                  <a:lnTo>
                    <a:pt x="43" y="43"/>
                  </a:lnTo>
                  <a:lnTo>
                    <a:pt x="24" y="63"/>
                  </a:lnTo>
                  <a:lnTo>
                    <a:pt x="12" y="88"/>
                  </a:lnTo>
                  <a:lnTo>
                    <a:pt x="3" y="115"/>
                  </a:lnTo>
                  <a:lnTo>
                    <a:pt x="0" y="144"/>
                  </a:lnTo>
                  <a:lnTo>
                    <a:pt x="0" y="552"/>
                  </a:lnTo>
                  <a:lnTo>
                    <a:pt x="69" y="552"/>
                  </a:lnTo>
                  <a:lnTo>
                    <a:pt x="69" y="144"/>
                  </a:lnTo>
                  <a:lnTo>
                    <a:pt x="70" y="129"/>
                  </a:lnTo>
                  <a:lnTo>
                    <a:pt x="75" y="115"/>
                  </a:lnTo>
                  <a:lnTo>
                    <a:pt x="82" y="103"/>
                  </a:lnTo>
                  <a:lnTo>
                    <a:pt x="91" y="91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8" y="77"/>
                  </a:lnTo>
                  <a:lnTo>
                    <a:pt x="115" y="75"/>
                  </a:lnTo>
                  <a:lnTo>
                    <a:pt x="122" y="73"/>
                  </a:lnTo>
                  <a:lnTo>
                    <a:pt x="129" y="70"/>
                  </a:lnTo>
                  <a:lnTo>
                    <a:pt x="136" y="69"/>
                  </a:lnTo>
                  <a:lnTo>
                    <a:pt x="144" y="69"/>
                  </a:lnTo>
                  <a:lnTo>
                    <a:pt x="1019" y="69"/>
                  </a:lnTo>
                  <a:lnTo>
                    <a:pt x="1026" y="69"/>
                  </a:lnTo>
                  <a:lnTo>
                    <a:pt x="1034" y="70"/>
                  </a:lnTo>
                  <a:lnTo>
                    <a:pt x="1041" y="73"/>
                  </a:lnTo>
                  <a:lnTo>
                    <a:pt x="1048" y="75"/>
                  </a:lnTo>
                  <a:lnTo>
                    <a:pt x="1055" y="77"/>
                  </a:lnTo>
                  <a:lnTo>
                    <a:pt x="1061" y="82"/>
                  </a:lnTo>
                  <a:lnTo>
                    <a:pt x="1066" y="85"/>
                  </a:lnTo>
                  <a:lnTo>
                    <a:pt x="1072" y="91"/>
                  </a:lnTo>
                  <a:lnTo>
                    <a:pt x="1081" y="103"/>
                  </a:lnTo>
                  <a:lnTo>
                    <a:pt x="1088" y="115"/>
                  </a:lnTo>
                  <a:lnTo>
                    <a:pt x="1093" y="129"/>
                  </a:lnTo>
                  <a:lnTo>
                    <a:pt x="1094" y="144"/>
                  </a:lnTo>
                  <a:lnTo>
                    <a:pt x="1094" y="1021"/>
                  </a:lnTo>
                  <a:lnTo>
                    <a:pt x="1093" y="1036"/>
                  </a:lnTo>
                  <a:lnTo>
                    <a:pt x="1088" y="1050"/>
                  </a:lnTo>
                  <a:lnTo>
                    <a:pt x="1081" y="1063"/>
                  </a:lnTo>
                  <a:lnTo>
                    <a:pt x="1072" y="1074"/>
                  </a:lnTo>
                  <a:lnTo>
                    <a:pt x="1061" y="1083"/>
                  </a:lnTo>
                  <a:lnTo>
                    <a:pt x="1048" y="1090"/>
                  </a:lnTo>
                  <a:lnTo>
                    <a:pt x="1034" y="1095"/>
                  </a:lnTo>
                  <a:lnTo>
                    <a:pt x="1019" y="1096"/>
                  </a:lnTo>
                  <a:lnTo>
                    <a:pt x="144" y="1096"/>
                  </a:lnTo>
                  <a:lnTo>
                    <a:pt x="136" y="1096"/>
                  </a:lnTo>
                  <a:lnTo>
                    <a:pt x="129" y="1095"/>
                  </a:lnTo>
                  <a:lnTo>
                    <a:pt x="122" y="1093"/>
                  </a:lnTo>
                  <a:lnTo>
                    <a:pt x="115" y="1090"/>
                  </a:lnTo>
                  <a:lnTo>
                    <a:pt x="108" y="1087"/>
                  </a:lnTo>
                  <a:lnTo>
                    <a:pt x="102" y="1083"/>
                  </a:lnTo>
                  <a:lnTo>
                    <a:pt x="97" y="1079"/>
                  </a:lnTo>
                  <a:lnTo>
                    <a:pt x="91" y="1074"/>
                  </a:lnTo>
                  <a:lnTo>
                    <a:pt x="82" y="1063"/>
                  </a:lnTo>
                  <a:lnTo>
                    <a:pt x="75" y="1050"/>
                  </a:lnTo>
                  <a:lnTo>
                    <a:pt x="70" y="1036"/>
                  </a:lnTo>
                  <a:lnTo>
                    <a:pt x="69" y="1021"/>
                  </a:lnTo>
                  <a:lnTo>
                    <a:pt x="69" y="552"/>
                  </a:lnTo>
                  <a:lnTo>
                    <a:pt x="0" y="552"/>
                  </a:lnTo>
                  <a:lnTo>
                    <a:pt x="0" y="1021"/>
                  </a:lnTo>
                  <a:lnTo>
                    <a:pt x="1" y="1035"/>
                  </a:lnTo>
                  <a:lnTo>
                    <a:pt x="2" y="1049"/>
                  </a:lnTo>
                  <a:lnTo>
                    <a:pt x="6" y="1063"/>
                  </a:lnTo>
                  <a:lnTo>
                    <a:pt x="12" y="1075"/>
                  </a:lnTo>
                  <a:lnTo>
                    <a:pt x="17" y="1088"/>
                  </a:lnTo>
                  <a:lnTo>
                    <a:pt x="24" y="1101"/>
                  </a:lnTo>
                  <a:lnTo>
                    <a:pt x="33" y="1112"/>
                  </a:lnTo>
                  <a:lnTo>
                    <a:pt x="43" y="1123"/>
                  </a:lnTo>
                  <a:lnTo>
                    <a:pt x="53" y="1132"/>
                  </a:lnTo>
                  <a:lnTo>
                    <a:pt x="64" y="1140"/>
                  </a:lnTo>
                  <a:lnTo>
                    <a:pt x="76" y="1147"/>
                  </a:lnTo>
                  <a:lnTo>
                    <a:pt x="89" y="1154"/>
                  </a:lnTo>
                  <a:lnTo>
                    <a:pt x="102" y="1158"/>
                  </a:lnTo>
                  <a:lnTo>
                    <a:pt x="116" y="1162"/>
                  </a:lnTo>
                  <a:lnTo>
                    <a:pt x="130" y="1163"/>
                  </a:lnTo>
                  <a:lnTo>
                    <a:pt x="144" y="1164"/>
                  </a:lnTo>
                  <a:lnTo>
                    <a:pt x="1019" y="1164"/>
                  </a:lnTo>
                  <a:lnTo>
                    <a:pt x="1033" y="1163"/>
                  </a:lnTo>
                  <a:lnTo>
                    <a:pt x="1047" y="1162"/>
                  </a:lnTo>
                  <a:lnTo>
                    <a:pt x="1061" y="1158"/>
                  </a:lnTo>
                  <a:lnTo>
                    <a:pt x="1073" y="1154"/>
                  </a:lnTo>
                  <a:lnTo>
                    <a:pt x="1086" y="1147"/>
                  </a:lnTo>
                  <a:lnTo>
                    <a:pt x="1099" y="1140"/>
                  </a:lnTo>
                  <a:lnTo>
                    <a:pt x="1110" y="1132"/>
                  </a:lnTo>
                  <a:lnTo>
                    <a:pt x="1121" y="1123"/>
                  </a:lnTo>
                  <a:lnTo>
                    <a:pt x="1130" y="1112"/>
                  </a:lnTo>
                  <a:lnTo>
                    <a:pt x="1138" y="1101"/>
                  </a:lnTo>
                  <a:lnTo>
                    <a:pt x="1145" y="1088"/>
                  </a:lnTo>
                  <a:lnTo>
                    <a:pt x="1152" y="1075"/>
                  </a:lnTo>
                  <a:lnTo>
                    <a:pt x="1156" y="1063"/>
                  </a:lnTo>
                  <a:lnTo>
                    <a:pt x="1160" y="1049"/>
                  </a:lnTo>
                  <a:lnTo>
                    <a:pt x="1161" y="1035"/>
                  </a:lnTo>
                  <a:lnTo>
                    <a:pt x="1162" y="1021"/>
                  </a:lnTo>
                  <a:lnTo>
                    <a:pt x="1162" y="144"/>
                  </a:lnTo>
                  <a:lnTo>
                    <a:pt x="1161" y="130"/>
                  </a:lnTo>
                  <a:lnTo>
                    <a:pt x="1160" y="116"/>
                  </a:lnTo>
                  <a:lnTo>
                    <a:pt x="1156" y="103"/>
                  </a:lnTo>
                  <a:lnTo>
                    <a:pt x="1152" y="89"/>
                  </a:lnTo>
                  <a:lnTo>
                    <a:pt x="1145" y="76"/>
                  </a:lnTo>
                  <a:lnTo>
                    <a:pt x="1138" y="65"/>
                  </a:lnTo>
                  <a:lnTo>
                    <a:pt x="1130" y="53"/>
                  </a:lnTo>
                  <a:lnTo>
                    <a:pt x="1121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908000" y="4869000"/>
            <a:ext cx="501840" cy="503280"/>
            <a:chOff x="1908000" y="4869000"/>
            <a:chExt cx="501840" cy="503280"/>
          </a:xfrm>
        </p:grpSpPr>
        <p:sp>
          <p:nvSpPr>
            <p:cNvPr id="529" name=""/>
            <p:cNvSpPr/>
            <p:nvPr/>
          </p:nvSpPr>
          <p:spPr>
            <a:xfrm>
              <a:off x="1930320" y="4890240"/>
              <a:ext cx="466200" cy="469080"/>
            </a:xfrm>
            <a:custGeom>
              <a:avLst/>
              <a:gdLst/>
              <a:ahLst/>
              <a:rect l="l" t="t" r="r" b="b"/>
              <a:pathLst>
                <a:path w="1079" h="1084">
                  <a:moveTo>
                    <a:pt x="970" y="1084"/>
                  </a:moveTo>
                  <a:lnTo>
                    <a:pt x="992" y="1082"/>
                  </a:lnTo>
                  <a:lnTo>
                    <a:pt x="1012" y="1075"/>
                  </a:lnTo>
                  <a:lnTo>
                    <a:pt x="1031" y="1066"/>
                  </a:lnTo>
                  <a:lnTo>
                    <a:pt x="1047" y="1052"/>
                  </a:lnTo>
                  <a:lnTo>
                    <a:pt x="1061" y="1036"/>
                  </a:lnTo>
                  <a:lnTo>
                    <a:pt x="1070" y="1017"/>
                  </a:lnTo>
                  <a:lnTo>
                    <a:pt x="1077" y="996"/>
                  </a:lnTo>
                  <a:lnTo>
                    <a:pt x="1079" y="975"/>
                  </a:lnTo>
                  <a:lnTo>
                    <a:pt x="1079" y="109"/>
                  </a:lnTo>
                  <a:lnTo>
                    <a:pt x="1077" y="87"/>
                  </a:lnTo>
                  <a:lnTo>
                    <a:pt x="1070" y="66"/>
                  </a:lnTo>
                  <a:lnTo>
                    <a:pt x="1061" y="48"/>
                  </a:lnTo>
                  <a:lnTo>
                    <a:pt x="1047" y="32"/>
                  </a:lnTo>
                  <a:lnTo>
                    <a:pt x="1031" y="18"/>
                  </a:lnTo>
                  <a:lnTo>
                    <a:pt x="1012" y="9"/>
                  </a:lnTo>
                  <a:lnTo>
                    <a:pt x="992" y="2"/>
                  </a:lnTo>
                  <a:lnTo>
                    <a:pt x="970" y="0"/>
                  </a:lnTo>
                  <a:lnTo>
                    <a:pt x="109" y="0"/>
                  </a:lnTo>
                  <a:lnTo>
                    <a:pt x="87" y="2"/>
                  </a:lnTo>
                  <a:lnTo>
                    <a:pt x="67" y="9"/>
                  </a:lnTo>
                  <a:lnTo>
                    <a:pt x="48" y="18"/>
                  </a:lnTo>
                  <a:lnTo>
                    <a:pt x="32" y="32"/>
                  </a:lnTo>
                  <a:lnTo>
                    <a:pt x="18" y="48"/>
                  </a:lnTo>
                  <a:lnTo>
                    <a:pt x="9" y="66"/>
                  </a:lnTo>
                  <a:lnTo>
                    <a:pt x="2" y="87"/>
                  </a:lnTo>
                  <a:lnTo>
                    <a:pt x="0" y="109"/>
                  </a:lnTo>
                  <a:lnTo>
                    <a:pt x="0" y="975"/>
                  </a:lnTo>
                  <a:lnTo>
                    <a:pt x="2" y="996"/>
                  </a:lnTo>
                  <a:lnTo>
                    <a:pt x="9" y="1017"/>
                  </a:lnTo>
                  <a:lnTo>
                    <a:pt x="18" y="1036"/>
                  </a:lnTo>
                  <a:lnTo>
                    <a:pt x="32" y="1052"/>
                  </a:lnTo>
                  <a:lnTo>
                    <a:pt x="48" y="1066"/>
                  </a:lnTo>
                  <a:lnTo>
                    <a:pt x="67" y="1075"/>
                  </a:lnTo>
                  <a:lnTo>
                    <a:pt x="87" y="1082"/>
                  </a:lnTo>
                  <a:lnTo>
                    <a:pt x="109" y="1084"/>
                  </a:lnTo>
                  <a:lnTo>
                    <a:pt x="970" y="10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74600" y="4940280"/>
              <a:ext cx="373320" cy="31140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704" y="0"/>
                  </a:moveTo>
                  <a:lnTo>
                    <a:pt x="146" y="0"/>
                  </a:lnTo>
                  <a:lnTo>
                    <a:pt x="0" y="299"/>
                  </a:lnTo>
                  <a:lnTo>
                    <a:pt x="99" y="299"/>
                  </a:lnTo>
                  <a:lnTo>
                    <a:pt x="99" y="718"/>
                  </a:lnTo>
                  <a:lnTo>
                    <a:pt x="754" y="721"/>
                  </a:lnTo>
                  <a:lnTo>
                    <a:pt x="754" y="299"/>
                  </a:lnTo>
                  <a:lnTo>
                    <a:pt x="865" y="299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2120" y="5248440"/>
              <a:ext cx="459720" cy="83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5270760"/>
              <a:ext cx="47376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7648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7648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1280" y="514368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51280" y="5176800"/>
              <a:ext cx="17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46760" y="514368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6760" y="5176800"/>
              <a:ext cx="17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21560" y="514368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21560" y="5176800"/>
              <a:ext cx="169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56680" y="4917600"/>
              <a:ext cx="33480" cy="9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6520" y="5151960"/>
              <a:ext cx="61200" cy="94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38760" y="5163840"/>
              <a:ext cx="34560" cy="3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64680" y="5211360"/>
              <a:ext cx="12600" cy="12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31"/>
                  </a:moveTo>
                  <a:lnTo>
                    <a:pt x="22" y="30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5" y="26"/>
                  </a:lnTo>
                  <a:lnTo>
                    <a:pt x="9" y="3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9240" y="5261760"/>
              <a:ext cx="455400" cy="94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660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80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1348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3904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6928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96280" y="5295600"/>
              <a:ext cx="9360" cy="10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2652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5244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5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8160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0752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3"/>
                  </a:moveTo>
                  <a:lnTo>
                    <a:pt x="2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5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38480" y="5279760"/>
              <a:ext cx="1152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5120" y="529560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95720" y="527976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22000" y="5295600"/>
              <a:ext cx="10080" cy="10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5279760"/>
              <a:ext cx="10440" cy="10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5660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1348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6928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2652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8160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38480" y="5317560"/>
              <a:ext cx="1152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95720" y="5317560"/>
              <a:ext cx="1008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3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52600" y="5317560"/>
              <a:ext cx="10440" cy="10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4" y="13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97080" y="4981320"/>
              <a:ext cx="56520" cy="950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30" y="220"/>
                  </a:moveTo>
                  <a:lnTo>
                    <a:pt x="130" y="58"/>
                  </a:lnTo>
                  <a:lnTo>
                    <a:pt x="68" y="0"/>
                  </a:lnTo>
                  <a:lnTo>
                    <a:pt x="0" y="58"/>
                  </a:lnTo>
                  <a:lnTo>
                    <a:pt x="0" y="220"/>
                  </a:lnTo>
                  <a:lnTo>
                    <a:pt x="130" y="2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2840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2840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6440" y="501228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06440" y="5041800"/>
              <a:ext cx="15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67120" y="4982040"/>
              <a:ext cx="55080" cy="94320"/>
            </a:xfrm>
            <a:custGeom>
              <a:avLst/>
              <a:gdLst/>
              <a:ahLst/>
              <a:rect l="l" t="t" r="r" b="b"/>
              <a:pathLst>
                <a:path w="129" h="216">
                  <a:moveTo>
                    <a:pt x="129" y="216"/>
                  </a:moveTo>
                  <a:lnTo>
                    <a:pt x="129" y="54"/>
                  </a:lnTo>
                  <a:lnTo>
                    <a:pt x="68" y="0"/>
                  </a:lnTo>
                  <a:lnTo>
                    <a:pt x="0" y="54"/>
                  </a:lnTo>
                  <a:lnTo>
                    <a:pt x="0" y="216"/>
                  </a:lnTo>
                  <a:lnTo>
                    <a:pt x="129" y="2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98800" y="501228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98800" y="5041800"/>
              <a:ext cx="14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6480" y="501228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5041800"/>
              <a:ext cx="16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08000" y="4869000"/>
              <a:ext cx="501840" cy="503280"/>
            </a:xfrm>
            <a:custGeom>
              <a:avLst/>
              <a:gdLst/>
              <a:ahLst/>
              <a:rect l="l" t="t" r="r" b="b"/>
              <a:pathLst>
                <a:path w="1162" h="1164">
                  <a:moveTo>
                    <a:pt x="1121" y="43"/>
                  </a:moveTo>
                  <a:lnTo>
                    <a:pt x="1110" y="33"/>
                  </a:lnTo>
                  <a:lnTo>
                    <a:pt x="1099" y="24"/>
                  </a:lnTo>
                  <a:lnTo>
                    <a:pt x="1086" y="17"/>
                  </a:lnTo>
                  <a:lnTo>
                    <a:pt x="1073" y="10"/>
                  </a:lnTo>
                  <a:lnTo>
                    <a:pt x="1061" y="6"/>
                  </a:lnTo>
                  <a:lnTo>
                    <a:pt x="1047" y="2"/>
                  </a:lnTo>
                  <a:lnTo>
                    <a:pt x="1033" y="1"/>
                  </a:lnTo>
                  <a:lnTo>
                    <a:pt x="1019" y="0"/>
                  </a:lnTo>
                  <a:lnTo>
                    <a:pt x="144" y="0"/>
                  </a:lnTo>
                  <a:lnTo>
                    <a:pt x="115" y="3"/>
                  </a:lnTo>
                  <a:lnTo>
                    <a:pt x="88" y="12"/>
                  </a:lnTo>
                  <a:lnTo>
                    <a:pt x="63" y="24"/>
                  </a:lnTo>
                  <a:lnTo>
                    <a:pt x="43" y="43"/>
                  </a:lnTo>
                  <a:lnTo>
                    <a:pt x="24" y="63"/>
                  </a:lnTo>
                  <a:lnTo>
                    <a:pt x="12" y="88"/>
                  </a:lnTo>
                  <a:lnTo>
                    <a:pt x="3" y="115"/>
                  </a:lnTo>
                  <a:lnTo>
                    <a:pt x="0" y="144"/>
                  </a:lnTo>
                  <a:lnTo>
                    <a:pt x="0" y="552"/>
                  </a:lnTo>
                  <a:lnTo>
                    <a:pt x="69" y="552"/>
                  </a:lnTo>
                  <a:lnTo>
                    <a:pt x="69" y="144"/>
                  </a:lnTo>
                  <a:lnTo>
                    <a:pt x="70" y="129"/>
                  </a:lnTo>
                  <a:lnTo>
                    <a:pt x="75" y="115"/>
                  </a:lnTo>
                  <a:lnTo>
                    <a:pt x="82" y="103"/>
                  </a:lnTo>
                  <a:lnTo>
                    <a:pt x="91" y="91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8" y="77"/>
                  </a:lnTo>
                  <a:lnTo>
                    <a:pt x="115" y="75"/>
                  </a:lnTo>
                  <a:lnTo>
                    <a:pt x="122" y="73"/>
                  </a:lnTo>
                  <a:lnTo>
                    <a:pt x="129" y="70"/>
                  </a:lnTo>
                  <a:lnTo>
                    <a:pt x="136" y="69"/>
                  </a:lnTo>
                  <a:lnTo>
                    <a:pt x="144" y="69"/>
                  </a:lnTo>
                  <a:lnTo>
                    <a:pt x="1019" y="69"/>
                  </a:lnTo>
                  <a:lnTo>
                    <a:pt x="1026" y="69"/>
                  </a:lnTo>
                  <a:lnTo>
                    <a:pt x="1034" y="70"/>
                  </a:lnTo>
                  <a:lnTo>
                    <a:pt x="1041" y="73"/>
                  </a:lnTo>
                  <a:lnTo>
                    <a:pt x="1048" y="75"/>
                  </a:lnTo>
                  <a:lnTo>
                    <a:pt x="1055" y="77"/>
                  </a:lnTo>
                  <a:lnTo>
                    <a:pt x="1061" y="82"/>
                  </a:lnTo>
                  <a:lnTo>
                    <a:pt x="1066" y="85"/>
                  </a:lnTo>
                  <a:lnTo>
                    <a:pt x="1072" y="91"/>
                  </a:lnTo>
                  <a:lnTo>
                    <a:pt x="1081" y="103"/>
                  </a:lnTo>
                  <a:lnTo>
                    <a:pt x="1088" y="115"/>
                  </a:lnTo>
                  <a:lnTo>
                    <a:pt x="1093" y="129"/>
                  </a:lnTo>
                  <a:lnTo>
                    <a:pt x="1094" y="144"/>
                  </a:lnTo>
                  <a:lnTo>
                    <a:pt x="1094" y="1021"/>
                  </a:lnTo>
                  <a:lnTo>
                    <a:pt x="1093" y="1036"/>
                  </a:lnTo>
                  <a:lnTo>
                    <a:pt x="1088" y="1050"/>
                  </a:lnTo>
                  <a:lnTo>
                    <a:pt x="1081" y="1063"/>
                  </a:lnTo>
                  <a:lnTo>
                    <a:pt x="1072" y="1074"/>
                  </a:lnTo>
                  <a:lnTo>
                    <a:pt x="1061" y="1083"/>
                  </a:lnTo>
                  <a:lnTo>
                    <a:pt x="1048" y="1090"/>
                  </a:lnTo>
                  <a:lnTo>
                    <a:pt x="1034" y="1095"/>
                  </a:lnTo>
                  <a:lnTo>
                    <a:pt x="1019" y="1096"/>
                  </a:lnTo>
                  <a:lnTo>
                    <a:pt x="144" y="1096"/>
                  </a:lnTo>
                  <a:lnTo>
                    <a:pt x="136" y="1096"/>
                  </a:lnTo>
                  <a:lnTo>
                    <a:pt x="129" y="1095"/>
                  </a:lnTo>
                  <a:lnTo>
                    <a:pt x="122" y="1093"/>
                  </a:lnTo>
                  <a:lnTo>
                    <a:pt x="115" y="1090"/>
                  </a:lnTo>
                  <a:lnTo>
                    <a:pt x="108" y="1087"/>
                  </a:lnTo>
                  <a:lnTo>
                    <a:pt x="102" y="1083"/>
                  </a:lnTo>
                  <a:lnTo>
                    <a:pt x="97" y="1079"/>
                  </a:lnTo>
                  <a:lnTo>
                    <a:pt x="91" y="1074"/>
                  </a:lnTo>
                  <a:lnTo>
                    <a:pt x="82" y="1063"/>
                  </a:lnTo>
                  <a:lnTo>
                    <a:pt x="75" y="1050"/>
                  </a:lnTo>
                  <a:lnTo>
                    <a:pt x="70" y="1036"/>
                  </a:lnTo>
                  <a:lnTo>
                    <a:pt x="69" y="1021"/>
                  </a:lnTo>
                  <a:lnTo>
                    <a:pt x="69" y="552"/>
                  </a:lnTo>
                  <a:lnTo>
                    <a:pt x="0" y="552"/>
                  </a:lnTo>
                  <a:lnTo>
                    <a:pt x="0" y="1021"/>
                  </a:lnTo>
                  <a:lnTo>
                    <a:pt x="1" y="1035"/>
                  </a:lnTo>
                  <a:lnTo>
                    <a:pt x="2" y="1049"/>
                  </a:lnTo>
                  <a:lnTo>
                    <a:pt x="6" y="1063"/>
                  </a:lnTo>
                  <a:lnTo>
                    <a:pt x="12" y="1075"/>
                  </a:lnTo>
                  <a:lnTo>
                    <a:pt x="17" y="1088"/>
                  </a:lnTo>
                  <a:lnTo>
                    <a:pt x="24" y="1101"/>
                  </a:lnTo>
                  <a:lnTo>
                    <a:pt x="33" y="1112"/>
                  </a:lnTo>
                  <a:lnTo>
                    <a:pt x="43" y="1123"/>
                  </a:lnTo>
                  <a:lnTo>
                    <a:pt x="53" y="1132"/>
                  </a:lnTo>
                  <a:lnTo>
                    <a:pt x="64" y="1140"/>
                  </a:lnTo>
                  <a:lnTo>
                    <a:pt x="76" y="1147"/>
                  </a:lnTo>
                  <a:lnTo>
                    <a:pt x="89" y="1154"/>
                  </a:lnTo>
                  <a:lnTo>
                    <a:pt x="102" y="1158"/>
                  </a:lnTo>
                  <a:lnTo>
                    <a:pt x="116" y="1162"/>
                  </a:lnTo>
                  <a:lnTo>
                    <a:pt x="130" y="1163"/>
                  </a:lnTo>
                  <a:lnTo>
                    <a:pt x="144" y="1164"/>
                  </a:lnTo>
                  <a:lnTo>
                    <a:pt x="1019" y="1164"/>
                  </a:lnTo>
                  <a:lnTo>
                    <a:pt x="1033" y="1163"/>
                  </a:lnTo>
                  <a:lnTo>
                    <a:pt x="1047" y="1162"/>
                  </a:lnTo>
                  <a:lnTo>
                    <a:pt x="1061" y="1158"/>
                  </a:lnTo>
                  <a:lnTo>
                    <a:pt x="1073" y="1154"/>
                  </a:lnTo>
                  <a:lnTo>
                    <a:pt x="1086" y="1147"/>
                  </a:lnTo>
                  <a:lnTo>
                    <a:pt x="1099" y="1140"/>
                  </a:lnTo>
                  <a:lnTo>
                    <a:pt x="1110" y="1132"/>
                  </a:lnTo>
                  <a:lnTo>
                    <a:pt x="1121" y="1123"/>
                  </a:lnTo>
                  <a:lnTo>
                    <a:pt x="1130" y="1112"/>
                  </a:lnTo>
                  <a:lnTo>
                    <a:pt x="1138" y="1101"/>
                  </a:lnTo>
                  <a:lnTo>
                    <a:pt x="1145" y="1088"/>
                  </a:lnTo>
                  <a:lnTo>
                    <a:pt x="1152" y="1075"/>
                  </a:lnTo>
                  <a:lnTo>
                    <a:pt x="1156" y="1063"/>
                  </a:lnTo>
                  <a:lnTo>
                    <a:pt x="1160" y="1049"/>
                  </a:lnTo>
                  <a:lnTo>
                    <a:pt x="1161" y="1035"/>
                  </a:lnTo>
                  <a:lnTo>
                    <a:pt x="1162" y="1021"/>
                  </a:lnTo>
                  <a:lnTo>
                    <a:pt x="1162" y="144"/>
                  </a:lnTo>
                  <a:lnTo>
                    <a:pt x="1161" y="130"/>
                  </a:lnTo>
                  <a:lnTo>
                    <a:pt x="1160" y="116"/>
                  </a:lnTo>
                  <a:lnTo>
                    <a:pt x="1156" y="103"/>
                  </a:lnTo>
                  <a:lnTo>
                    <a:pt x="1152" y="89"/>
                  </a:lnTo>
                  <a:lnTo>
                    <a:pt x="1145" y="76"/>
                  </a:lnTo>
                  <a:lnTo>
                    <a:pt x="1138" y="65"/>
                  </a:lnTo>
                  <a:lnTo>
                    <a:pt x="1130" y="53"/>
                  </a:lnTo>
                  <a:lnTo>
                    <a:pt x="1121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5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систе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901960" cy="166536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395280" y="1341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256536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2854440"/>
            <a:ext cx="8064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ичные преобразователи и приемоконтрольное оборудование, размещенное на объекте уч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вер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атизированные рабочие места пользователей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ии связ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0360" y="1628640"/>
            <a:ext cx="3024360" cy="432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948360" y="907920"/>
            <a:ext cx="1079640" cy="505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40360" y="260280"/>
            <a:ext cx="3024360" cy="432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уче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971640" y="1341360"/>
            <a:ext cx="77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06800" y="2741760"/>
            <a:ext cx="4867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639960" y="3075120"/>
            <a:ext cx="532080" cy="533160"/>
            <a:chOff x="3639960" y="3075120"/>
            <a:chExt cx="532080" cy="533160"/>
          </a:xfrm>
        </p:grpSpPr>
        <p:sp>
          <p:nvSpPr>
            <p:cNvPr id="594" name=""/>
            <p:cNvSpPr/>
            <p:nvPr/>
          </p:nvSpPr>
          <p:spPr>
            <a:xfrm>
              <a:off x="3705840" y="3075120"/>
              <a:ext cx="399960" cy="533160"/>
            </a:xfrm>
            <a:custGeom>
              <a:avLst/>
              <a:gdLst>
                <a:gd name="textAreaLeft" fmla="*/ 19440 w 399960"/>
                <a:gd name="textAreaRight" fmla="*/ 380520 w 399960"/>
                <a:gd name="textAreaTop" fmla="*/ 19440 h 533160"/>
                <a:gd name="textAreaBottom" fmla="*/ 513720 h 533160"/>
              </a:gdLst>
              <a:ahLst/>
              <a:rect l="textAreaLeft" t="textAreaTop" r="textAreaRight" b="textAreaBottom"/>
              <a:pathLst>
                <a:path w="21600" h="28787">
                  <a:moveTo>
                    <a:pt x="3600" y="0"/>
                  </a:moveTo>
                  <a:arcTo wR="3600" hR="3600" stAng="16200000" swAng="-5400000"/>
                  <a:lnTo>
                    <a:pt x="0" y="25187"/>
                  </a:lnTo>
                  <a:arcTo wR="3600" hR="3600" stAng="10800000" swAng="-5400000"/>
                  <a:lnTo>
                    <a:pt x="18000" y="287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39960" y="3208680"/>
              <a:ext cx="532080" cy="26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2272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6516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28520" y="3112920"/>
              <a:ext cx="355680" cy="4698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469800"/>
                <a:gd name="textAreaBottom" fmla="*/ 452520 h 469800"/>
              </a:gdLst>
              <a:ahLst/>
              <a:rect l="textAreaLeft" t="textAreaTop" r="textAreaRight" b="textAreaBottom"/>
              <a:pathLst>
                <a:path w="21600" h="28523">
                  <a:moveTo>
                    <a:pt x="3600" y="0"/>
                  </a:moveTo>
                  <a:arcTo wR="3600" hR="3600" stAng="16200000" swAng="-5400000"/>
                  <a:lnTo>
                    <a:pt x="0" y="24923"/>
                  </a:lnTo>
                  <a:arcTo wR="3600" hR="3600" stAng="10800000" swAng="-5400000"/>
                  <a:lnTo>
                    <a:pt x="18000" y="285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9716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6516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905360" y="3075120"/>
            <a:ext cx="531720" cy="533160"/>
            <a:chOff x="4905360" y="3075120"/>
            <a:chExt cx="531720" cy="533160"/>
          </a:xfrm>
        </p:grpSpPr>
        <p:sp>
          <p:nvSpPr>
            <p:cNvPr id="602" name=""/>
            <p:cNvSpPr/>
            <p:nvPr/>
          </p:nvSpPr>
          <p:spPr>
            <a:xfrm>
              <a:off x="4971240" y="3075120"/>
              <a:ext cx="399600" cy="533160"/>
            </a:xfrm>
            <a:custGeom>
              <a:avLst/>
              <a:gdLst>
                <a:gd name="textAreaLeft" fmla="*/ 19440 w 399600"/>
                <a:gd name="textAreaRight" fmla="*/ 380160 w 399600"/>
                <a:gd name="textAreaTop" fmla="*/ 19440 h 533160"/>
                <a:gd name="textAreaBottom" fmla="*/ 513720 h 533160"/>
              </a:gdLst>
              <a:ahLst/>
              <a:rect l="textAreaLeft" t="textAreaTop" r="textAreaRight" b="textAreaBottom"/>
              <a:pathLst>
                <a:path w="21600" h="28813">
                  <a:moveTo>
                    <a:pt x="3600" y="0"/>
                  </a:moveTo>
                  <a:arcTo wR="3600" hR="3600" stAng="16200000" swAng="-5400000"/>
                  <a:lnTo>
                    <a:pt x="0" y="25213"/>
                  </a:lnTo>
                  <a:arcTo wR="3600" hR="3600" stAng="10800000" swAng="-5400000"/>
                  <a:lnTo>
                    <a:pt x="18000" y="28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5360" y="3208680"/>
              <a:ext cx="531720" cy="26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8776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3056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93920" y="3112920"/>
              <a:ext cx="355320" cy="46980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469800"/>
                <a:gd name="textAreaBottom" fmla="*/ 452520 h 469800"/>
              </a:gdLst>
              <a:ahLst/>
              <a:rect l="textAreaLeft" t="textAreaTop" r="textAreaRight" b="textAreaBottom"/>
              <a:pathLst>
                <a:path w="21600" h="28552">
                  <a:moveTo>
                    <a:pt x="3600" y="0"/>
                  </a:moveTo>
                  <a:arcTo wR="3600" hR="3600" stAng="16200000" swAng="-5400000"/>
                  <a:lnTo>
                    <a:pt x="0" y="24952"/>
                  </a:lnTo>
                  <a:arcTo wR="3600" hR="3600" stAng="10800000" swAng="-5400000"/>
                  <a:lnTo>
                    <a:pt x="18000" y="285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6220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056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372360" y="3075120"/>
            <a:ext cx="531720" cy="533160"/>
            <a:chOff x="6372360" y="3075120"/>
            <a:chExt cx="531720" cy="533160"/>
          </a:xfrm>
        </p:grpSpPr>
        <p:sp>
          <p:nvSpPr>
            <p:cNvPr id="610" name=""/>
            <p:cNvSpPr/>
            <p:nvPr/>
          </p:nvSpPr>
          <p:spPr>
            <a:xfrm>
              <a:off x="6438240" y="3075120"/>
              <a:ext cx="399600" cy="533160"/>
            </a:xfrm>
            <a:custGeom>
              <a:avLst/>
              <a:gdLst>
                <a:gd name="textAreaLeft" fmla="*/ 19440 w 399600"/>
                <a:gd name="textAreaRight" fmla="*/ 380160 w 399600"/>
                <a:gd name="textAreaTop" fmla="*/ 19440 h 533160"/>
                <a:gd name="textAreaBottom" fmla="*/ 513720 h 533160"/>
              </a:gdLst>
              <a:ahLst/>
              <a:rect l="textAreaLeft" t="textAreaTop" r="textAreaRight" b="textAreaBottom"/>
              <a:pathLst>
                <a:path w="21600" h="28813">
                  <a:moveTo>
                    <a:pt x="3600" y="0"/>
                  </a:moveTo>
                  <a:arcTo wR="3600" hR="3600" stAng="16200000" swAng="-5400000"/>
                  <a:lnTo>
                    <a:pt x="0" y="25213"/>
                  </a:lnTo>
                  <a:arcTo wR="3600" hR="3600" stAng="10800000" swAng="-5400000"/>
                  <a:lnTo>
                    <a:pt x="18000" y="28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72360" y="3208680"/>
              <a:ext cx="531720" cy="26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476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9756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60920" y="3112920"/>
              <a:ext cx="355320" cy="46980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469800"/>
                <a:gd name="textAreaBottom" fmla="*/ 452520 h 469800"/>
              </a:gdLst>
              <a:ahLst/>
              <a:rect l="textAreaLeft" t="textAreaTop" r="textAreaRight" b="textAreaBottom"/>
              <a:pathLst>
                <a:path w="21600" h="28552">
                  <a:moveTo>
                    <a:pt x="3600" y="0"/>
                  </a:moveTo>
                  <a:arcTo wR="3600" hR="3600" stAng="16200000" swAng="-5400000"/>
                  <a:lnTo>
                    <a:pt x="0" y="24952"/>
                  </a:lnTo>
                  <a:arcTo wR="3600" hR="3600" stAng="10800000" swAng="-5400000"/>
                  <a:lnTo>
                    <a:pt x="18000" y="285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2920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9756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705800" y="3075120"/>
            <a:ext cx="531720" cy="533160"/>
            <a:chOff x="7705800" y="3075120"/>
            <a:chExt cx="531720" cy="533160"/>
          </a:xfrm>
        </p:grpSpPr>
        <p:sp>
          <p:nvSpPr>
            <p:cNvPr id="618" name=""/>
            <p:cNvSpPr/>
            <p:nvPr/>
          </p:nvSpPr>
          <p:spPr>
            <a:xfrm>
              <a:off x="7771680" y="3075120"/>
              <a:ext cx="399600" cy="533160"/>
            </a:xfrm>
            <a:custGeom>
              <a:avLst/>
              <a:gdLst>
                <a:gd name="textAreaLeft" fmla="*/ 19440 w 399600"/>
                <a:gd name="textAreaRight" fmla="*/ 380160 w 399600"/>
                <a:gd name="textAreaTop" fmla="*/ 19440 h 533160"/>
                <a:gd name="textAreaBottom" fmla="*/ 513720 h 533160"/>
              </a:gdLst>
              <a:ahLst/>
              <a:rect l="textAreaLeft" t="textAreaTop" r="textAreaRight" b="textAreaBottom"/>
              <a:pathLst>
                <a:path w="21600" h="28813">
                  <a:moveTo>
                    <a:pt x="3600" y="0"/>
                  </a:moveTo>
                  <a:arcTo wR="3600" hR="3600" stAng="16200000" swAng="-5400000"/>
                  <a:lnTo>
                    <a:pt x="0" y="25213"/>
                  </a:lnTo>
                  <a:arcTo wR="3600" hR="3600" stAng="10800000" swAng="-5400000"/>
                  <a:lnTo>
                    <a:pt x="18000" y="28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05800" y="3208680"/>
              <a:ext cx="531720" cy="26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8820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31000" y="3417840"/>
              <a:ext cx="248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94360" y="3112920"/>
              <a:ext cx="355320" cy="46980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469800"/>
                <a:gd name="textAreaBottom" fmla="*/ 452520 h 469800"/>
              </a:gdLst>
              <a:ahLst/>
              <a:rect l="textAreaLeft" t="textAreaTop" r="textAreaRight" b="textAreaBottom"/>
              <a:pathLst>
                <a:path w="21600" h="28552">
                  <a:moveTo>
                    <a:pt x="3600" y="0"/>
                  </a:moveTo>
                  <a:arcTo wR="3600" hR="3600" stAng="16200000" swAng="-5400000"/>
                  <a:lnTo>
                    <a:pt x="0" y="24952"/>
                  </a:lnTo>
                  <a:arcTo wR="3600" hR="3600" stAng="10800000" swAng="-5400000"/>
                  <a:lnTo>
                    <a:pt x="18000" y="285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6264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31000" y="3240360"/>
              <a:ext cx="5040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V="1">
            <a:off x="3905280" y="2741760"/>
            <a:ext cx="0" cy="3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172120" y="2741760"/>
            <a:ext cx="0" cy="3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6640560" y="2741760"/>
            <a:ext cx="0" cy="3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974000" y="2741760"/>
            <a:ext cx="0" cy="3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05280" y="3608280"/>
            <a:ext cx="0" cy="40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72120" y="3608280"/>
            <a:ext cx="0" cy="66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40560" y="3608280"/>
            <a:ext cx="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74000" y="3608280"/>
            <a:ext cx="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438360" y="3875040"/>
            <a:ext cx="881280" cy="13222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4505400" y="4141800"/>
            <a:ext cx="1322280" cy="8110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039000" y="4206960"/>
            <a:ext cx="1266840" cy="733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6105600" y="4008600"/>
            <a:ext cx="1133280" cy="11332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7505640" y="4208400"/>
            <a:ext cx="1000080" cy="733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7505640" y="4208400"/>
            <a:ext cx="933480" cy="639720"/>
          </a:xfrm>
          <a:prstGeom prst="rect">
            <a:avLst/>
          </a:prstGeom>
          <a:ln w="0">
            <a:noFill/>
          </a:ln>
        </p:spPr>
      </p:pic>
      <p:grpSp>
        <p:nvGrpSpPr>
          <p:cNvPr id="639" name=""/>
          <p:cNvGrpSpPr/>
          <p:nvPr/>
        </p:nvGrpSpPr>
        <p:grpSpPr>
          <a:xfrm>
            <a:off x="2571840" y="2475000"/>
            <a:ext cx="533160" cy="533160"/>
            <a:chOff x="2571840" y="2475000"/>
            <a:chExt cx="533160" cy="533160"/>
          </a:xfrm>
        </p:grpSpPr>
        <p:sp>
          <p:nvSpPr>
            <p:cNvPr id="640" name=""/>
            <p:cNvSpPr/>
            <p:nvPr/>
          </p:nvSpPr>
          <p:spPr>
            <a:xfrm>
              <a:off x="2637720" y="2475000"/>
              <a:ext cx="400680" cy="533160"/>
            </a:xfrm>
            <a:custGeom>
              <a:avLst/>
              <a:gdLst>
                <a:gd name="textAreaLeft" fmla="*/ 19440 w 400680"/>
                <a:gd name="textAreaRight" fmla="*/ 381240 w 400680"/>
                <a:gd name="textAreaTop" fmla="*/ 19440 h 533160"/>
                <a:gd name="textAreaBottom" fmla="*/ 513720 h 533160"/>
              </a:gdLst>
              <a:ahLst/>
              <a:rect l="textAreaLeft" t="textAreaTop" r="textAreaRight" b="textAreaBottom"/>
              <a:pathLst>
                <a:path w="21600" h="28735">
                  <a:moveTo>
                    <a:pt x="3600" y="0"/>
                  </a:moveTo>
                  <a:arcTo wR="3600" hR="3600" stAng="16200000" swAng="-5400000"/>
                  <a:lnTo>
                    <a:pt x="0" y="25135"/>
                  </a:lnTo>
                  <a:arcTo wR="3600" hR="3600" stAng="10800000" swAng="-5400000"/>
                  <a:lnTo>
                    <a:pt x="18000" y="287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2608560"/>
              <a:ext cx="533160" cy="26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55320" y="2817720"/>
              <a:ext cx="2520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97040" y="2817720"/>
              <a:ext cx="2520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60760" y="2512800"/>
              <a:ext cx="356400" cy="469800"/>
            </a:xfrm>
            <a:custGeom>
              <a:avLst/>
              <a:gdLst>
                <a:gd name="textAreaLeft" fmla="*/ 17280 w 356400"/>
                <a:gd name="textAreaRight" fmla="*/ 339120 w 356400"/>
                <a:gd name="textAreaTop" fmla="*/ 17280 h 469800"/>
                <a:gd name="textAreaBottom" fmla="*/ 452520 h 469800"/>
              </a:gdLst>
              <a:ahLst/>
              <a:rect l="textAreaLeft" t="textAreaTop" r="textAreaRight" b="textAreaBottom"/>
              <a:pathLst>
                <a:path w="21600" h="28466">
                  <a:moveTo>
                    <a:pt x="3600" y="0"/>
                  </a:moveTo>
                  <a:arcTo wR="3600" hR="3600" stAng="16200000" swAng="-5400000"/>
                  <a:lnTo>
                    <a:pt x="0" y="24866"/>
                  </a:lnTo>
                  <a:arcTo wR="3600" hR="3600" stAng="10800000" swAng="-5400000"/>
                  <a:lnTo>
                    <a:pt x="18000" y="284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29760" y="2640240"/>
              <a:ext cx="5076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7040" y="2640240"/>
              <a:ext cx="5076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rot="5400000">
            <a:off x="5433840" y="-120600"/>
            <a:ext cx="277560" cy="4802040"/>
          </a:xfrm>
          <a:custGeom>
            <a:avLst/>
            <a:gdLst>
              <a:gd name="textAreaLeft" fmla="*/ 177480 w 277560"/>
              <a:gd name="textAreaRight" fmla="*/ 277920 w 277560"/>
              <a:gd name="textAreaTop" fmla="*/ 124920 h 4802040"/>
              <a:gd name="textAreaBottom" fmla="*/ 4677120 h 48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0"/>
                </a:lnTo>
                <a:cubicBezTo>
                  <a:pt x="10800" y="9860"/>
                  <a:pt x="5400" y="10760"/>
                  <a:pt x="0" y="10760"/>
                </a:cubicBezTo>
                <a:cubicBezTo>
                  <a:pt x="5400" y="10760"/>
                  <a:pt x="10800" y="11660"/>
                  <a:pt x="10800" y="125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53280" y="1808280"/>
            <a:ext cx="40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формационно-питающая линия (до 2 км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172960" y="2741760"/>
            <a:ext cx="39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1171440" y="2341440"/>
            <a:ext cx="1098720" cy="774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036160" y="20750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36082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S-232/4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9360" y="374184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S-232/4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96360" y="374184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S-232/4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13240" y="374184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мп.вх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5400000">
            <a:off x="1223640" y="3610080"/>
            <a:ext cx="936360" cy="431640"/>
          </a:xfrm>
          <a:custGeom>
            <a:avLst/>
            <a:gdLst>
              <a:gd name="textAreaLeft" fmla="*/ 146160 w 936360"/>
              <a:gd name="textAreaRight" fmla="*/ 819360 w 936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06680" y="234936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-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3880" y="357336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90920" y="3357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11280" y="4365720"/>
            <a:ext cx="2160360" cy="936360"/>
            <a:chOff x="611280" y="4365720"/>
            <a:chExt cx="2160360" cy="936360"/>
          </a:xfrm>
        </p:grpSpPr>
        <p:sp>
          <p:nvSpPr>
            <p:cNvPr id="661" name=""/>
            <p:cNvSpPr/>
            <p:nvPr/>
          </p:nvSpPr>
          <p:spPr>
            <a:xfrm>
              <a:off x="611280" y="4365720"/>
              <a:ext cx="2160360" cy="936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4360" y="465444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СЕРВЕР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836720" y="4510080"/>
              <a:ext cx="647280" cy="532800"/>
              <a:chOff x="1836720" y="4510080"/>
              <a:chExt cx="647280" cy="532800"/>
            </a:xfrm>
          </p:grpSpPr>
          <p:sp>
            <p:nvSpPr>
              <p:cNvPr id="664" name="Gear"/>
              <p:cNvSpPr/>
              <p:nvPr/>
            </p:nvSpPr>
            <p:spPr>
              <a:xfrm>
                <a:off x="2195640" y="4510080"/>
                <a:ext cx="288360" cy="244080"/>
              </a:xfrm>
              <a:prstGeom prst="pi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836720" y="4610520"/>
                <a:ext cx="344880" cy="291960"/>
              </a:xfrm>
              <a:prstGeom prst="pi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060280" y="4718520"/>
                <a:ext cx="383400" cy="324360"/>
              </a:xfrm>
              <a:prstGeom prst="pi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15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434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ащени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бъек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4716360" y="509760"/>
            <a:ext cx="4054680" cy="16952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395280" y="1916280"/>
            <a:ext cx="8353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рудование объект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вичные преобразователи: теплосчетчики, приборы учета расхода горячей и холодной воды, газа и электроэнер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о-контрольное оборудование: интерфейсные блоки БПДД-232/485, блоки тарифицированных счетчиков БТ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 обработки данных: Домовой регистратор, блок БК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формационно-питающая ли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3789360"/>
            <a:ext cx="8353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возможностей системы достигается путем подключения к информационно-питающей линии дополнительных блоков с необходимой функциональностью. Среди возможностей систем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петчеризация лифтового оборуд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хранно-пожарная сигнализация, контроль доступ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и управление освещением, вентиляцией, системами водоуда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ганизация диспетчерской голосовой связи с помещениями объек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0920" y="63000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онирование сист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765680" y="509760"/>
            <a:ext cx="4054320" cy="16952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95280" y="2430360"/>
            <a:ext cx="83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единяющим элементом является информационно-питающая линия (ИПЛ), представляющая собой коаксиальный кабель соединяющий между собой все блоки системы. Подключение блоков выполняется по топологии «Общая шина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ПЛ используется как для информационного обмена так и для подачи питающего напряжения к подключенным к ней блок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овой регистратор, представляет собой промышленный компьютер функционирующий под управлением операционной системы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nu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Управляющая программа домового регистратора в соответствии с алгоритмом опроса проводит периодическое считывание данных с первичных преобразователей, предварительную обработку поступивших данных и формирует информационные пакеты для отправки на сервер системы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47527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боры учета тепла и электроэнерг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4765680" y="509760"/>
            <a:ext cx="4054320" cy="16952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395280" y="28224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подключения к системе пригодны приборы учета тепла и электроэнергии, оборудованные внешним информационным интерфейсо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S-232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S-485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ля подключения используется интерфейсный блок БПДД-232/485 преобразующий сигналы шины СОС-95 в сигналы соответствующих интерфейс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иду того, что разные типы приборов учета поддерживают различные способы считывания информации (протоколы), то каждый новый тип требует написания специального модуля в управляющей программе домового регистрато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4341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боры учета тепла и электроэнерг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4716360" y="522360"/>
            <a:ext cx="4194360" cy="17542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24000" y="2492280"/>
            <a:ext cx="54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астоящий момент система поддерживает следующие типы приборов уче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пловычислител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К-59(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ИС.Т-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ИС.Т-Н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mbimetr-Q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ЭМ-05М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злет ТСРВ-0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СРВ-02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БН КМ-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Эско-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РТМ-0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аран-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Тэрм-0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акти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свега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A-9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етчики электрической энергии: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ЭЭ8003/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ЭЭ8005/1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ЦЭ682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ЦЭ682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ЦЭ682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ЦЭ685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ятие ведет непрерывную работу по расширению списка поддерживаемых прибо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286000" cy="24969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6307200" y="2852640"/>
            <a:ext cx="2432160" cy="2664000"/>
          </a:xfrm>
          <a:custGeom>
            <a:avLst/>
            <a:gdLst>
              <a:gd name="textAreaLeft" fmla="*/ 118440 w 2432160"/>
              <a:gd name="textAreaRight" fmla="*/ 2313720 w 2432160"/>
              <a:gd name="textAreaTop" fmla="*/ 118440 h 2664000"/>
              <a:gd name="textAreaBottom" fmla="*/ 2545560 h 2664000"/>
            </a:gdLst>
            <a:ahLst/>
            <a:rect l="textAreaLeft" t="textAreaTop" r="textAreaRight" b="textAreaBottom"/>
            <a:pathLst>
              <a:path w="21600" h="23659">
                <a:moveTo>
                  <a:pt x="3600" y="0"/>
                </a:moveTo>
                <a:arcTo wR="3600" hR="3600" stAng="16200000" swAng="-5400000"/>
                <a:lnTo>
                  <a:pt x="0" y="20059"/>
                </a:lnTo>
                <a:arcTo wR="3600" hR="3600" stAng="10800000" swAng="-5400000"/>
                <a:lnTo>
                  <a:pt x="18000" y="23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41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93320" y="5589720"/>
            <a:ext cx="20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ок БПДД-232/4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84720" y="1052640"/>
            <a:ext cx="2016360" cy="1224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7-16T07:24:44Z</dcterms:modified>
  <cp:revision>41</cp:revision>
  <dc:subject/>
  <dc:title>PowerPoint Presentation</dc:title>
</cp:coreProperties>
</file>